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A029-E392-49C9-91B7-12956FBF46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CE9A-CAC0-4D5F-B357-B0B0EA3157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F7D0-23F3-4832-B43F-2085498E16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3092-EFF8-4FF2-8FBE-B5EEC44648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38F1-EFA5-4AC6-A1DF-C71720D13C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986F-914C-4AC3-B25C-6974E720F7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EF27-8FA1-4849-9AFB-7B8824F49E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FFC6-B3CC-414C-83C7-4E10072D5D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8FE9-A8C3-48DF-B178-ED6AA81421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93D8-5B58-498B-8ED4-445EBE919B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C1BB-1D30-44F4-8319-F4DA787555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6DC2-70CA-4C03-9D81-EFB31B7F04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AC4D-592C-4D0A-B80B-8C3206EE53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0EC4-8C64-4D11-8505-0D8177E1C6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B0BF-EB52-4DDF-8840-66FC6F5AFD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FE58-EAE4-415A-A347-6C66D82EC3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3598-33C4-4C49-AF9B-821CC0DDD6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1B8B-BC79-436A-B230-4096F17A64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2D60-6BE3-4ECB-879F-50BE047739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8B8E-FD5A-4D92-871E-140C124341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F94A-6EB7-44AB-BA62-F7F9D92A0F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54C-3716-4D16-B1F7-34964A17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9C5-A74F-4BA8-88EB-BA92DBF3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B97-FECD-4E25-83D9-8B32AF67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4AA-6CCD-412C-BC76-AC2B331B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3A5-8248-4E0F-A23F-E2BA26E0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2F3-BD01-4141-9FB1-B782541E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AEE-7225-42CC-86F0-DEFF0578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7F0-9144-4CC3-BF97-BA083173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9D2-87A7-4C95-A383-154D463B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B97-54D4-40C7-9DBE-87021197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808-DF6B-4567-BA22-B234D69B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404-F6E7-446C-88FE-E3B415AD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478D-AFC0-4EE4-9778-CA6A584972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uscon.rae.es/draeI/SrvltConsulta?TIPO_BUS=3&amp;LEMA=rE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549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La Formación de la Opinión Públ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ommunication"/>
          <p:cNvPicPr/>
          <p:nvPr/>
        </p:nvPicPr>
        <p:blipFill>
          <a:blip r:embed="rId1"/>
          <a:stretch/>
        </p:blipFill>
        <p:spPr>
          <a:xfrm>
            <a:off x="3924360" y="3068640"/>
            <a:ext cx="3809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142920" y="2798640"/>
            <a:ext cx="885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a teoría dominante desde 70´s en la investigación de la comunic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ta de la capacidad de los medios para ordenar el mundo mentalmente y organizarlo por cada individuo, es decir, no trata de decirle a los individuos qué pensar, sino sobre qué pensar. Agenda- setting es un proceso colectivo en el que los medios, el gobierno y la influencia del público, determinan los aspectos que son considerados como impor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"/>
          <p:cNvSpPr/>
          <p:nvPr/>
        </p:nvSpPr>
        <p:spPr>
          <a:xfrm>
            <a:off x="750960" y="939960"/>
            <a:ext cx="303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La teoría de agenda-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Rectángulo"/>
          <p:cNvSpPr/>
          <p:nvPr/>
        </p:nvSpPr>
        <p:spPr>
          <a:xfrm>
            <a:off x="4071960" y="642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Dos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Influenci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que sobre la opinión ejercen los medios m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de comun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285840" y="1999080"/>
            <a:ext cx="8858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La Agenda- setting no influye de la misma manera para todos lo individu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McCombs y Weaver (1997) sugieren que los individuos difieren en sus necesidad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orientación y que ésta está determinada por dos aspe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1. La importancia de la información para el indivi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2. El grado de incertidumbre sobre el tema del men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De esta manera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  <a:ea typeface="Calibri"/>
              </a:rPr>
              <a:t>a mayor importancia de la información y a mayor grad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  <a:ea typeface="Calibri"/>
              </a:rPr>
              <a:t>incertidumbre respecto a un tema, mayor será la necesidad de información y mayor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  <a:ea typeface="Calibri"/>
              </a:rPr>
              <a:t>influencia de la agenda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(Severin y Tankard;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 Rectángulo"/>
          <p:cNvSpPr/>
          <p:nvPr/>
        </p:nvSpPr>
        <p:spPr>
          <a:xfrm>
            <a:off x="4071960" y="642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Dos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Influenci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que sobre la opinión ejercen los medios m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de comun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Rectángulo"/>
          <p:cNvSpPr/>
          <p:nvPr/>
        </p:nvSpPr>
        <p:spPr>
          <a:xfrm>
            <a:off x="428760" y="785880"/>
            <a:ext cx="303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La teoría de agenda-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62626"/>
                </a:solidFill>
                <a:latin typeface="Verdana"/>
              </a:rPr>
              <a:t>“</a:t>
            </a:r>
            <a:r>
              <a:rPr b="1" lang="es-ES_tradnl" sz="4400" spc="-1" strike="noStrike">
                <a:solidFill>
                  <a:srgbClr val="262626"/>
                </a:solidFill>
                <a:latin typeface="Verdana"/>
              </a:rPr>
              <a:t>Quien tiene la información tiene el pod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CuadroTexto"/>
          <p:cNvSpPr/>
          <p:nvPr/>
        </p:nvSpPr>
        <p:spPr>
          <a:xfrm>
            <a:off x="510480" y="2428920"/>
            <a:ext cx="822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c00000"/>
                </a:solidFill>
                <a:latin typeface="Arial"/>
              </a:rPr>
              <a:t>¿Qué es informació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formación según la R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CuadroTexto"/>
          <p:cNvSpPr/>
          <p:nvPr/>
        </p:nvSpPr>
        <p:spPr>
          <a:xfrm>
            <a:off x="571680" y="235728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 Comunicación o adquisición de conocimientos que permiten ampliar o precisar los que se poseen sobre una materia determi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 Conocimientos así comunicados o adquir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CuadroTexto"/>
          <p:cNvSpPr/>
          <p:nvPr/>
        </p:nvSpPr>
        <p:spPr>
          <a:xfrm>
            <a:off x="642960" y="192888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comunicación es hoy movimiento de informac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 CuadroTexto"/>
          <p:cNvSpPr/>
          <p:nvPr/>
        </p:nvSpPr>
        <p:spPr>
          <a:xfrm>
            <a:off x="1387440" y="3571920"/>
            <a:ext cx="42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shal Mcluhan, intelectual canadi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CuadroTexto"/>
          <p:cNvSpPr/>
          <p:nvPr/>
        </p:nvSpPr>
        <p:spPr>
          <a:xfrm>
            <a:off x="1000080" y="142884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na diferencia fundamental entre comunicación e información está en que la primera alcanza todos los niveles del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CuadroTexto"/>
          <p:cNvSpPr/>
          <p:nvPr/>
        </p:nvSpPr>
        <p:spPr>
          <a:xfrm>
            <a:off x="1143000" y="314316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ísico, emocional, intelectual. La segunda se dirige, en cambio, al nivel intelectual y/o al sistema de los reflejos condicionales. Obviamente la comunicación es bilatera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CuadroTexto"/>
          <p:cNvSpPr/>
          <p:nvPr/>
        </p:nvSpPr>
        <p:spPr>
          <a:xfrm>
            <a:off x="1759320" y="55720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Joao Costa, intelectual españ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CuadroTexto"/>
          <p:cNvSpPr/>
          <p:nvPr/>
        </p:nvSpPr>
        <p:spPr>
          <a:xfrm>
            <a:off x="714240" y="1285920"/>
            <a:ext cx="59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 debe confundirse información con comunicación. Que la primera hace referencia al proceso y la segunda la situación socia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 CuadroTexto"/>
          <p:cNvSpPr/>
          <p:nvPr/>
        </p:nvSpPr>
        <p:spPr>
          <a:xfrm>
            <a:off x="857160" y="34290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Ángel Benito, maestro español de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420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4 Conector recto de flecha"/>
          <p:cNvCxnSpPr/>
          <p:nvPr/>
        </p:nvCxnSpPr>
        <p:spPr>
          <a:xfrm flipH="1">
            <a:off x="2856960" y="2857320"/>
            <a:ext cx="572040" cy="1143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6 Conector recto de flecha"/>
          <p:cNvCxnSpPr/>
          <p:nvPr/>
        </p:nvCxnSpPr>
        <p:spPr>
          <a:xfrm>
            <a:off x="4856760" y="2857680"/>
            <a:ext cx="500760" cy="1072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08" name="7 CuadroTexto"/>
          <p:cNvSpPr/>
          <p:nvPr/>
        </p:nvSpPr>
        <p:spPr>
          <a:xfrm>
            <a:off x="357120" y="35712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Arial"/>
              </a:rPr>
              <a:t>¿Qué otro verbo y qué otro sustantivo se desprenden de Inform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84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4 Conector recto de flecha"/>
          <p:cNvCxnSpPr/>
          <p:nvPr/>
        </p:nvCxnSpPr>
        <p:spPr>
          <a:xfrm flipH="1">
            <a:off x="2142720" y="2714760"/>
            <a:ext cx="1215360" cy="1643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1" name="6 Conector recto de flecha"/>
          <p:cNvCxnSpPr/>
          <p:nvPr/>
        </p:nvCxnSpPr>
        <p:spPr>
          <a:xfrm>
            <a:off x="5000760" y="2571840"/>
            <a:ext cx="64332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2" name="7 CuadroTexto"/>
          <p:cNvSpPr/>
          <p:nvPr/>
        </p:nvSpPr>
        <p:spPr>
          <a:xfrm>
            <a:off x="357120" y="14292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Arial"/>
              </a:rPr>
              <a:t>¿Qué otro verbo y qué otros sustantivos se desprenden de Inform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 Rectángulo"/>
          <p:cNvSpPr/>
          <p:nvPr/>
        </p:nvSpPr>
        <p:spPr>
          <a:xfrm>
            <a:off x="500040" y="4286160"/>
            <a:ext cx="30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uente 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Material que sirve de información a un investigador o de inspiración a un autor. (R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9 Rectángulo"/>
          <p:cNvSpPr/>
          <p:nvPr/>
        </p:nvSpPr>
        <p:spPr>
          <a:xfrm>
            <a:off x="5072040" y="3811680"/>
            <a:ext cx="328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atamieto de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.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Inform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plicación sistemática de uno o varios programas sobre un conjunto de datos para utilizar la información que conti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214280" y="2643120"/>
            <a:ext cx="2667240" cy="3810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357800" y="958680"/>
            <a:ext cx="3917880" cy="53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Uno.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fuerza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 que la sociedad ti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sobre el individuo como ser social, que pertenece a una comunidad mayor que él mism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que a la vez lo moldea como un ser que es el reflejo de la propia sociedad. (Intervienen :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familia, la escuela, los grupos sociales y los prejuicios,( Norm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Preestablecida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Dos.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Influencia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 que sobre la opinión ejercen los medios mas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de comunicación. Principalmente los medios masivos de comunicación, que ordenan y organizan 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mentalmente para cada individuo a quien  sobre qué pensar. (Teoría de la agenda-set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3 Rectángulo"/>
          <p:cNvSpPr/>
          <p:nvPr/>
        </p:nvSpPr>
        <p:spPr>
          <a:xfrm>
            <a:off x="285840" y="714240"/>
            <a:ext cx="32144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040"/>
                </a:solidFill>
                <a:latin typeface="Calibri"/>
                <a:ea typeface="Calibri"/>
              </a:rPr>
              <a:t>Aspectos  fundamentales en la formación de la opinión pública </a:t>
            </a:r>
            <a:r>
              <a:rPr b="1" lang="es-ES" sz="1400" spc="-1" strike="noStrike">
                <a:solidFill>
                  <a:srgbClr val="404040"/>
                </a:solidFill>
                <a:latin typeface="Calibri"/>
                <a:ea typeface="Calibri"/>
              </a:rPr>
              <a:t>(Según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ribel García Méndez) </a:t>
            </a:r>
            <a:r>
              <a:rPr b="1" lang="es-ES" sz="1400" spc="-1" strike="noStrike">
                <a:solidFill>
                  <a:srgbClr val="404040"/>
                </a:solidFill>
                <a:latin typeface="Calibri"/>
                <a:ea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84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4 Conector recto de flecha"/>
          <p:cNvCxnSpPr/>
          <p:nvPr/>
        </p:nvCxnSpPr>
        <p:spPr>
          <a:xfrm flipH="1">
            <a:off x="2142720" y="2714760"/>
            <a:ext cx="1215360" cy="1643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7" name="6 Conector recto de flecha"/>
          <p:cNvCxnSpPr/>
          <p:nvPr/>
        </p:nvCxnSpPr>
        <p:spPr>
          <a:xfrm>
            <a:off x="5000760" y="2571840"/>
            <a:ext cx="64332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8" name="7 CuadroTexto"/>
          <p:cNvSpPr/>
          <p:nvPr/>
        </p:nvSpPr>
        <p:spPr>
          <a:xfrm>
            <a:off x="357120" y="14292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Arial"/>
              </a:rPr>
              <a:t>¿Qué otro verbo y qué otros sustantivos se desprenden de Inform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5 Rectángulo"/>
          <p:cNvSpPr/>
          <p:nvPr/>
        </p:nvSpPr>
        <p:spPr>
          <a:xfrm>
            <a:off x="500040" y="42861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uente 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9 Rectángulo"/>
          <p:cNvSpPr/>
          <p:nvPr/>
        </p:nvSpPr>
        <p:spPr>
          <a:xfrm>
            <a:off x="5072040" y="38116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atamiet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10 Conector recto de flecha"/>
          <p:cNvCxnSpPr/>
          <p:nvPr/>
        </p:nvCxnSpPr>
        <p:spPr>
          <a:xfrm>
            <a:off x="4285080" y="3071880"/>
            <a:ext cx="72360" cy="23580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2" name="11 CuadroTexto"/>
          <p:cNvSpPr/>
          <p:nvPr/>
        </p:nvSpPr>
        <p:spPr>
          <a:xfrm>
            <a:off x="2428920" y="550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chos, representaciones, que NO han sido procesados o manipu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84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cesar información implica el </a:t>
            </a:r>
            <a:r>
              <a:rPr b="1" lang="es-ES" sz="2400" spc="-1" strike="noStrike">
                <a:solidFill>
                  <a:srgbClr val="c00000"/>
                </a:solidFill>
                <a:latin typeface="Verdana"/>
              </a:rPr>
              <a:t>almacenamient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la </a:t>
            </a:r>
            <a:r>
              <a:rPr b="1" lang="es-ES" sz="2400" spc="-1" strike="noStrike">
                <a:solidFill>
                  <a:srgbClr val="c00000"/>
                </a:solidFill>
                <a:latin typeface="Verdana"/>
              </a:rPr>
              <a:t>organizació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ES" sz="2400" spc="-1" strike="noStrike">
                <a:solidFill>
                  <a:srgbClr val="c00000"/>
                </a:solidFill>
                <a:latin typeface="Verdana"/>
              </a:rPr>
              <a:t>transmisió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de la misma.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Proceso Comunicación Baumhauer"/>
          <p:cNvPicPr/>
          <p:nvPr/>
        </p:nvPicPr>
        <p:blipFill>
          <a:blip r:embed="rId1"/>
          <a:stretch/>
        </p:blipFill>
        <p:spPr>
          <a:xfrm>
            <a:off x="1547640" y="880920"/>
            <a:ext cx="619308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odif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ibe inform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uce signos y señales de un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oceso ocurre en el cere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4572000" y="1413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572000" y="2276640"/>
            <a:ext cx="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4572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El Proceso de la comunicación ocurre en el cerebro"/>
          <p:cNvPicPr/>
          <p:nvPr/>
        </p:nvPicPr>
        <p:blipFill>
          <a:blip r:embed="rId1"/>
          <a:stretch/>
        </p:blipFill>
        <p:spPr>
          <a:xfrm>
            <a:off x="414360" y="557280"/>
            <a:ext cx="831528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2560" y="2071800"/>
            <a:ext cx="792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427640" y="1255680"/>
            <a:ext cx="432108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El decodificador NO revela automáticamente opinión pública por el hecho de haber decodificado un mensaj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1700" spc="-1" strike="noStrike">
                <a:solidFill>
                  <a:srgbClr val="000000"/>
                </a:solidFill>
                <a:latin typeface="Arial"/>
              </a:rPr>
              <a:t>Para FORMAR la </a:t>
            </a:r>
            <a:r>
              <a:rPr b="1" lang="es-CO" sz="2400" spc="-1" strike="noStrike">
                <a:solidFill>
                  <a:srgbClr val="cc3300"/>
                </a:solidFill>
                <a:latin typeface="Arial"/>
              </a:rPr>
              <a:t>OPINIÓN PÚBLICA</a:t>
            </a:r>
            <a:r>
              <a:rPr b="1" lang="es-CO" sz="17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NECES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La asociación de conteni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El intercambio de da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La libre discusión entre dos personas o má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Decisiones acerca del tema de interés colec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Expresión de acuerdo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11280" y="47628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50920" y="549360"/>
            <a:ext cx="8076960" cy="503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a Formación de la Opin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girl-listening-to-music"/>
          <p:cNvPicPr/>
          <p:nvPr/>
        </p:nvPicPr>
        <p:blipFill>
          <a:blip r:embed="rId1"/>
          <a:stretch/>
        </p:blipFill>
        <p:spPr>
          <a:xfrm>
            <a:off x="0" y="3645000"/>
            <a:ext cx="40384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roceso Comunicación Baumhauer 2"/>
          <p:cNvPicPr/>
          <p:nvPr/>
        </p:nvPicPr>
        <p:blipFill>
          <a:blip r:embed="rId1"/>
          <a:stretch/>
        </p:blipFill>
        <p:spPr>
          <a:xfrm>
            <a:off x="539640" y="847800"/>
            <a:ext cx="82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12"/>
          <p:cNvSpPr/>
          <p:nvPr/>
        </p:nvSpPr>
        <p:spPr>
          <a:xfrm>
            <a:off x="395280" y="1125360"/>
            <a:ext cx="3168720" cy="259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2560" y="2071800"/>
            <a:ext cx="792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427640" y="1916280"/>
            <a:ext cx="43210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EN LOS RECEPTORES 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0000"/>
                </a:solidFill>
                <a:latin typeface="Arial"/>
              </a:rPr>
              <a:t>FORMA la </a:t>
            </a:r>
            <a:r>
              <a:rPr b="1" lang="es-CO" sz="2400" spc="-1" strike="noStrike">
                <a:solidFill>
                  <a:srgbClr val="cc3300"/>
                </a:solidFill>
                <a:latin typeface="Arial"/>
              </a:rPr>
              <a:t>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11280" y="47628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50920" y="549360"/>
            <a:ext cx="8076960" cy="503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a Formación de la Opin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girl-listening-to-music"/>
          <p:cNvPicPr/>
          <p:nvPr/>
        </p:nvPicPr>
        <p:blipFill>
          <a:blip r:embed="rId1"/>
          <a:stretch/>
        </p:blipFill>
        <p:spPr>
          <a:xfrm>
            <a:off x="0" y="4149720"/>
            <a:ext cx="3780000" cy="26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612360" y="1989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3300"/>
                </a:solidFill>
                <a:latin typeface="Arial"/>
              </a:rPr>
              <a:t>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980720" y="24922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3300"/>
                </a:solidFill>
                <a:latin typeface="Arial"/>
              </a:rPr>
              <a:t>Diál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901800" y="285264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33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621800" y="14842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3300"/>
                </a:solidFill>
                <a:latin typeface="Arial"/>
              </a:rPr>
              <a:t>Rum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2627280" y="3573360"/>
            <a:ext cx="43200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47628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50920" y="549360"/>
            <a:ext cx="8076960" cy="503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a Formación de la Opin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lackpool4me1"/>
          <p:cNvPicPr/>
          <p:nvPr/>
        </p:nvPicPr>
        <p:blipFill>
          <a:blip r:embed="rId1"/>
          <a:srcRect l="0" t="0" r="0" b="12155"/>
          <a:stretch/>
        </p:blipFill>
        <p:spPr>
          <a:xfrm>
            <a:off x="2484360" y="2897280"/>
            <a:ext cx="2847960" cy="3960720"/>
          </a:xfrm>
          <a:prstGeom prst="rect">
            <a:avLst/>
          </a:prstGeom>
          <a:ln w="0">
            <a:noFill/>
          </a:ln>
        </p:spPr>
      </p:pic>
      <p:sp>
        <p:nvSpPr>
          <p:cNvPr id="156" name="WordArt 15"/>
          <p:cNvSpPr txBox="1"/>
          <p:nvPr/>
        </p:nvSpPr>
        <p:spPr>
          <a:xfrm>
            <a:off x="826920" y="1628640"/>
            <a:ext cx="7490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¿Cómo se forma la Opinión Pública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Formación de la Opinión Pública"/>
          <p:cNvPicPr/>
          <p:nvPr/>
        </p:nvPicPr>
        <p:blipFill>
          <a:blip r:embed="rId1"/>
          <a:stretch/>
        </p:blipFill>
        <p:spPr>
          <a:xfrm>
            <a:off x="957240" y="533520"/>
            <a:ext cx="72295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71680" y="1005120"/>
            <a:ext cx="36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luencia social en la formación de la opinión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(Oskamp:19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Rectángulo"/>
          <p:cNvSpPr/>
          <p:nvPr/>
        </p:nvSpPr>
        <p:spPr>
          <a:xfrm>
            <a:off x="285840" y="3286080"/>
            <a:ext cx="635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Trato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Familia durante la inf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Sistema educ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Grupos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Medios masivos de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0" t="0" r="1370" b="2693"/>
          <a:stretch/>
        </p:blipFill>
        <p:spPr>
          <a:xfrm>
            <a:off x="4429080" y="2500200"/>
            <a:ext cx="42134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714240" y="150228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  <a:ea typeface="Calibri"/>
              </a:rPr>
              <a:t>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4 Rectángulo"/>
          <p:cNvSpPr/>
          <p:nvPr/>
        </p:nvSpPr>
        <p:spPr>
          <a:xfrm>
            <a:off x="1071720" y="271476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kamp, S. (1991) Attitudes and opinions. USA: Pretin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5 Rectángulo"/>
          <p:cNvSpPr/>
          <p:nvPr/>
        </p:nvSpPr>
        <p:spPr>
          <a:xfrm>
            <a:off x="1071720" y="38577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ombs, y David Weaver (1997) Commnication and Democracy: Exploring the intelectual frontiers in agenda- setting the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6 Rectángulo"/>
          <p:cNvSpPr/>
          <p:nvPr/>
        </p:nvSpPr>
        <p:spPr>
          <a:xfrm>
            <a:off x="1071720" y="328608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llino, L., (1995) Diccionario de Sociología. México: Siglo XXI Edi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9 Rectángulo"/>
          <p:cNvSpPr/>
          <p:nvPr/>
        </p:nvSpPr>
        <p:spPr>
          <a:xfrm>
            <a:off x="1071720" y="46432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in, J. Werner y James Tankard (1979) Communication Theories: origins, methods, uses. USA: Hastings House Publis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500040" y="1875960"/>
            <a:ext cx="75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Puntos Cl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a influencia de los padres sobre las actitudes y conductas de los niñ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Es tan fuerte que algunos autores la han catalogado como una institu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En un principio, los padres poseen un control casi total sobre la información con la que el niño entra en cont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Gratifican o castigan la forma e que el niño actú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Gran poder para formar la actitud del ni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Gran cantidad de actitudes serán formadas por experiencia propia en el mundo, pero esta se derivará de la enseñanza pa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6 Rectángulo"/>
          <p:cNvSpPr/>
          <p:nvPr/>
        </p:nvSpPr>
        <p:spPr>
          <a:xfrm>
            <a:off x="500040" y="785880"/>
            <a:ext cx="28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a influencia de los padres sobre las actitudes y conductas de los 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286240" y="644760"/>
            <a:ext cx="364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Influencia social en la formación de la opinión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 (Oskamp:19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85840" y="2869200"/>
            <a:ext cx="90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Sistema educativ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Grupos socia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Presiones de Conform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Grupos de re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 Rectángulo"/>
          <p:cNvSpPr/>
          <p:nvPr/>
        </p:nvSpPr>
        <p:spPr>
          <a:xfrm>
            <a:off x="377280" y="1214280"/>
            <a:ext cx="40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  <a:ea typeface="Calibri"/>
              </a:rPr>
              <a:t>Grupos de Pre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1428840"/>
            <a:ext cx="3452760" cy="2589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5286240" y="644760"/>
            <a:ext cx="364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Influencia social en la formación de la opinión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 (Oskamp:19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285840" y="114444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Sistema educ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Rectángulo"/>
          <p:cNvSpPr/>
          <p:nvPr/>
        </p:nvSpPr>
        <p:spPr>
          <a:xfrm>
            <a:off x="4572000" y="19288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La enseñanza en las escuelas y el adoctrina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Este proceso se hace más evidente en las actitudes polí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Ide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Generación de ac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3786120" cy="2903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5143680" y="93024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Influencia social en la formación de la opinión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 (Oskamp:19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285840" y="164448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Presiones de conform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Rectángulo"/>
          <p:cNvSpPr/>
          <p:nvPr/>
        </p:nvSpPr>
        <p:spPr>
          <a:xfrm>
            <a:off x="2571840" y="278604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M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prejuicios raciales de los individuos son el simple reflejo de lo que se asume existe en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cultura, así como de las nor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5286240" y="644760"/>
            <a:ext cx="364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Influencia social en la formación de la opinión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 (Oskamp:19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71680" y="2857680"/>
            <a:ext cx="2071440" cy="27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285840" y="16441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Grupos de Re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Rectángulo"/>
          <p:cNvSpPr/>
          <p:nvPr/>
        </p:nvSpPr>
        <p:spPr>
          <a:xfrm>
            <a:off x="428760" y="2714760"/>
            <a:ext cx="5357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son intencion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Son conjuntos de valores morales y creencias que se comparan con los de otras personas. (estrellas de cine, celebridades, artista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Influyen en las actitudes de las personas, aunque no parezca evid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  <a:ea typeface="Calibri"/>
              </a:rPr>
              <a:t>Ejempl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: Prácticas sociales y religiosas. (Oskamp: 19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286240" y="644760"/>
            <a:ext cx="364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Influencia social en la formación de la opinión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 (Oskamp:19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5929200" y="3429000"/>
            <a:ext cx="29098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85840" y="2586600"/>
            <a:ext cx="885816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uciano Gallino (1995) menciona que la comunicación masiva ha tenido fu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impactos en la vida de los homb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La manipulación de los símb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La reducción de distancias físicas, temporales y soci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La influencia en la modificación del lenguaje escrito y hab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Son factores determinantes del status social (pueden cambiar una actitud hacia un objeto, persona o i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 Rectángulo"/>
          <p:cNvSpPr/>
          <p:nvPr/>
        </p:nvSpPr>
        <p:spPr>
          <a:xfrm>
            <a:off x="4071960" y="642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Dos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Influenci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que sobre la opinión ejercen los medios m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de comun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219528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0:11:36Z</dcterms:created>
  <dc:creator>Admin</dc:creator>
  <dc:description/>
  <dc:language>en-US</dc:language>
  <cp:lastModifiedBy>Esp. Cine</cp:lastModifiedBy>
  <dcterms:modified xsi:type="dcterms:W3CDTF">2009-09-15T22:09:06Z</dcterms:modified>
  <cp:revision>117</cp:revision>
  <dc:subject/>
  <dc:title>Diapositiva 1</dc:title>
</cp:coreProperties>
</file>